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3EC7-0954-4D10-978B-F91888368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07E3-605A-49B0-A06E-A53E99E2F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AA99-2FFF-47E2-AC44-7D2CAB061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9947-6296-433A-8E90-7371E907B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F993-0B00-479A-AD10-326B85508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9984-E617-403B-B002-B9EE53087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1114-574F-4502-AA9A-E6F61FC4F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87FF-F98C-41FA-80D6-624687052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4320-2141-47A3-B91D-EB2B11D41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7D9B-2FA1-41FA-AD0E-96219F89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E7D1-5379-412C-A35C-0A351882E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5E65-3FDC-4B11-A567-5B9DE15B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9041B-CBC8-4552-BBC7-DD10090BE2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auhaus 93"/>
              </a:rPr>
              <a:t>Ancient Greec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ocabulary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elany Boy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Greek city st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poiytrewazjk.bmp"/>
          <p:cNvPicPr/>
          <p:nvPr/>
        </p:nvPicPr>
        <p:blipFill>
          <a:blip r:embed="rId1"/>
          <a:stretch/>
        </p:blipFill>
        <p:spPr>
          <a:xfrm>
            <a:off x="1905120" y="2286000"/>
            <a:ext cx="5624280" cy="41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iloso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tudy of wisdom and the right way to l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qwkfgkhdgdsrdhjgfgiytdrs.jpg"/>
          <p:cNvPicPr/>
          <p:nvPr/>
        </p:nvPicPr>
        <p:blipFill>
          <a:blip r:embed="rId1"/>
          <a:stretch/>
        </p:blipFill>
        <p:spPr>
          <a:xfrm>
            <a:off x="1828800" y="2590920"/>
            <a:ext cx="571500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ninsu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143000" y="1371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area of land nearly surrounded by w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3" descr="kjgfdgvlkjdfszxcjhgfd.bmp"/>
          <p:cNvPicPr/>
          <p:nvPr/>
        </p:nvPicPr>
        <p:blipFill>
          <a:blip r:embed="rId1"/>
          <a:stretch/>
        </p:blipFill>
        <p:spPr>
          <a:xfrm>
            <a:off x="1752480" y="2362320"/>
            <a:ext cx="56102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loponnesian W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447920" y="1294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war between Athena and Spar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oiuhygvbnfcixybnfrmcjuxgvbgnmjvgkhtjbadvkyagser.gi;ufhagargfkjlgilagasgafniycgasgaeygfg.bmp"/>
          <p:cNvPicPr/>
          <p:nvPr/>
        </p:nvPicPr>
        <p:blipFill>
          <a:blip r:embed="rId1"/>
          <a:stretch/>
        </p:blipFill>
        <p:spPr>
          <a:xfrm>
            <a:off x="1828800" y="2362320"/>
            <a:ext cx="5784840" cy="40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lig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447920" y="1371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kind of government that is run by a small group of peo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3" descr="[piuytrdeswhj.bmp"/>
          <p:cNvPicPr/>
          <p:nvPr/>
        </p:nvPicPr>
        <p:blipFill>
          <a:blip r:embed="rId1"/>
          <a:stretch/>
        </p:blipFill>
        <p:spPr>
          <a:xfrm>
            <a:off x="1447920" y="2438280"/>
            <a:ext cx="6105240" cy="42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rb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95280" y="1523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helter place for shi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3" descr="kgtjhyrfdcjmhbgnjmfrukhDSGFEGKJLBVGAGKJHARWUGAEBGAVaipdfgkjsghsegkshdviwergs7cakjrgyargkjhgasgaskuviuasgfakjsg79xzgvkjag9askjavhaku.bmp"/>
          <p:cNvPicPr/>
          <p:nvPr/>
        </p:nvPicPr>
        <p:blipFill>
          <a:blip r:embed="rId1"/>
          <a:stretch/>
        </p:blipFill>
        <p:spPr>
          <a:xfrm>
            <a:off x="1828800" y="2819520"/>
            <a:ext cx="5991120" cy="38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hill which the Greeks built their city-states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cgfVBHNJKMBDVLNHJBG.jpg"/>
          <p:cNvPicPr/>
          <p:nvPr/>
        </p:nvPicPr>
        <p:blipFill>
          <a:blip r:embed="rId1"/>
          <a:stretch/>
        </p:blipFill>
        <p:spPr>
          <a:xfrm>
            <a:off x="1905120" y="2209680"/>
            <a:ext cx="5424480" cy="40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lace where Greeks meet and conduct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sdfghjksdfghj.bmp"/>
          <p:cNvPicPr/>
          <p:nvPr/>
        </p:nvPicPr>
        <p:blipFill>
          <a:blip r:embed="rId1"/>
          <a:stretch/>
        </p:blipFill>
        <p:spPr>
          <a:xfrm>
            <a:off x="1905120" y="1981080"/>
            <a:ext cx="530532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2"/>
          <p:cNvSpPr/>
          <p:nvPr/>
        </p:nvSpPr>
        <p:spPr>
          <a:xfrm>
            <a:off x="2666880" y="685800"/>
            <a:ext cx="403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990720" y="152388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awmaking place where people voted on issues that helped their 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wertyuikbvs.jpg"/>
          <p:cNvPicPr/>
          <p:nvPr/>
        </p:nvPicPr>
        <p:blipFill>
          <a:blip r:embed="rId1"/>
          <a:stretch/>
        </p:blipFill>
        <p:spPr>
          <a:xfrm>
            <a:off x="1371600" y="2590920"/>
            <a:ext cx="6058080" cy="40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tiz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47920" y="121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person who has certain rights and responsibility to his or her coun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asdfghjk.bmp"/>
          <p:cNvPicPr/>
          <p:nvPr/>
        </p:nvPicPr>
        <p:blipFill>
          <a:blip r:embed="rId1"/>
          <a:stretch/>
        </p:blipFill>
        <p:spPr>
          <a:xfrm>
            <a:off x="3200400" y="2362320"/>
            <a:ext cx="24861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o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600200" y="1294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group of people who live apart from Greece but kept economic with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uytrfdcfhf.jpg"/>
          <p:cNvPicPr/>
          <p:nvPr/>
        </p:nvPicPr>
        <p:blipFill>
          <a:blip r:embed="rId1"/>
          <a:stretch/>
        </p:blipFill>
        <p:spPr>
          <a:xfrm>
            <a:off x="1371600" y="2438280"/>
            <a:ext cx="6415200" cy="39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mocra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447920" y="114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form of government where people vote to make deci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3" descr="dfghjkigfdkhnb.bmp"/>
          <p:cNvPicPr/>
          <p:nvPr/>
        </p:nvPicPr>
        <p:blipFill>
          <a:blip r:embed="rId1"/>
          <a:stretch/>
        </p:blipFill>
        <p:spPr>
          <a:xfrm>
            <a:off x="1905120" y="2743200"/>
            <a:ext cx="54036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523880" y="121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hear evidence and make decisions in a court of la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xghkjfddkjg.bmp"/>
          <p:cNvPicPr/>
          <p:nvPr/>
        </p:nvPicPr>
        <p:blipFill>
          <a:blip r:embed="rId1"/>
          <a:stretch/>
        </p:blipFill>
        <p:spPr>
          <a:xfrm>
            <a:off x="1752480" y="2209680"/>
            <a:ext cx="59151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47920" y="1523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vernment headed by one rul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3" descr="sdgjkihgfd.bmp"/>
          <p:cNvPicPr/>
          <p:nvPr/>
        </p:nvPicPr>
        <p:blipFill>
          <a:blip r:embed="rId1"/>
          <a:stretch/>
        </p:blipFill>
        <p:spPr>
          <a:xfrm>
            <a:off x="2133720" y="2209680"/>
            <a:ext cx="537660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poweruser</cp:lastModifiedBy>
  <dcterms:modified xsi:type="dcterms:W3CDTF">2012-03-01T17:08:56Z</dcterms:modified>
  <cp:revision>95</cp:revision>
  <dc:subject/>
  <dc:title>Ancient Greece</dc:title>
</cp:coreProperties>
</file>